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ct" ContentType="image/x-pict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810B-0E47-4A24-8FCE-848450B2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0E42-10BB-4ABA-A6B7-1AB9480B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CFC1-C0A5-457E-832B-4CB63B70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D3C9-1E1C-4400-97F8-0817F32D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D207-8DFF-43B8-A9A0-8AC0A5AD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5D1C-847A-4C49-8A44-CF38C8B2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FA1E-EBC5-4374-8E20-EFDEEBFE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C6C8-48CC-4A9A-9903-165797E6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B6C8-AEE6-4DD5-9F4F-A0A4248D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EE52-2F87-453A-B350-6129E9FA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80E4-AA8D-49D0-9C95-FB4747F9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7CA7-9B58-4181-8CA5-C7607139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7EEF-3CAB-4B38-BF0D-544C1F6C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B216-2A65-41A0-86EC-8227EC9D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D90E-2ADA-4B2B-AC80-F5DF53DE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97AA-31F5-49B8-8BCE-A69C9B34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AD51-5D0C-4E21-87C7-D5DD3560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3E47-12A9-4C15-96E4-8A106C81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C292-FF64-4191-B013-85688A11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E6BF-9ADE-4C8E-B8B9-F0E6A7C0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1C8F-8EF3-4277-B484-ACC69E70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AB05-4690-4D6E-91E2-E6234A26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8E81-CA4E-4E64-9246-60AC1538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4823-9222-418D-A6B5-F4731ACD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00DC-0299-48DB-9E10-9B4235758D8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B6D0-7A00-4D0C-AA44-B7A47E702753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21320" y="3562200"/>
            <a:ext cx="1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ヒラギノ角ゴ Pro W3"/>
              </a:rPr>
              <a:t>_x0010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48120" y="1371600"/>
            <a:ext cx="3429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ainting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038480" y="3581280"/>
            <a:ext cx="1623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nting occurs when the blood supply to the brain is cut off for a short period of time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one who faints… loses consciousness for a period of tim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23880" y="914400"/>
            <a:ext cx="6375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Arial Black"/>
              </a:rPr>
              <a:t>What causes fainting???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733920" y="3200400"/>
            <a:ext cx="160020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Macintosh HD:Users:student:Desktop:78654204.mp3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f someone faints….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fecc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cc"/>
                </a:solidFill>
                <a:latin typeface="Tahoma"/>
              </a:rPr>
              <a:t>Don’t start laug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efecc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cc"/>
                </a:solidFill>
                <a:latin typeface="Tahoma"/>
              </a:rPr>
              <a:t>Don’t just stand t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efecc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cc"/>
                </a:solidFill>
                <a:latin typeface="Tahoma"/>
              </a:rPr>
              <a:t>Don’t run a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efecc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cc"/>
                </a:solidFill>
                <a:latin typeface="Tahoma"/>
              </a:rPr>
              <a:t>Don’t go out to 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efecc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cc"/>
                </a:solidFill>
                <a:latin typeface="Tahoma"/>
              </a:rPr>
              <a:t>Don’t start screaming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pick up the vict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017880" y="1996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543800" y="4038480"/>
            <a:ext cx="752400" cy="1148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931000" y="4267080"/>
            <a:ext cx="115560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261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ヒラギノ角ゴ Pro W3"/>
              </a:rPr>
              <a:t>_x0010_f someone faints..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ise the victim’s leg 8 to 12 inch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sen any tight clot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ck the victim’s breathing, keeping his or her airway op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Macintosh HD:Users:student:Desktop:ChorusKickAddedLayers.wav" descr=""/>
          <p:cNvPicPr/>
          <p:nvPr/>
        </p:nvPicPr>
        <p:blipFill>
          <a:blip r:embed="rId2"/>
          <a:stretch/>
        </p:blipFill>
        <p:spPr>
          <a:xfrm>
            <a:off x="3962520" y="51055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886200" y="5029200"/>
            <a:ext cx="11476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7606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victim does not regain consciousness… get medical hel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aware that fainting may signal a more serious condition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124080" y="4419720"/>
            <a:ext cx="2327400" cy="2124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819520" y="762120"/>
            <a:ext cx="3733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So now what???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Macintosh HD:Users:student:Desktop:Sound Effect - Winner 01.wav" descr=""/>
          <p:cNvPicPr/>
          <p:nvPr/>
        </p:nvPicPr>
        <p:blipFill>
          <a:blip r:embed="rId2"/>
          <a:stretch/>
        </p:blipFill>
        <p:spPr>
          <a:xfrm>
            <a:off x="304920" y="56386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2133720" y="1828800"/>
            <a:ext cx="4940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ank you for watching!!!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de by Laura Noll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366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3:15:41Z</dcterms:created>
  <dc:creator>Kraybill Campus LMS</dc:creator>
  <dc:description/>
  <dc:language>en-US</dc:language>
  <cp:lastModifiedBy>Kraybill Campus LMS</cp:lastModifiedBy>
  <dcterms:modified xsi:type="dcterms:W3CDTF">2011-05-26T16:02:03Z</dcterms:modified>
  <cp:revision>5</cp:revision>
  <dc:subject/>
  <dc:title>PowerPoint Presentation</dc:title>
</cp:coreProperties>
</file>